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gif" ContentType="image/gif"/>
  <Override PartName="/ppt/media/image10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702A-2325-4BB5-B972-6781D83A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16D0-A291-447B-8268-4FA31C87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5CC3-F516-4004-952B-E5C897141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EE7E-74DF-4C94-B8C3-E352DA26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1245-A747-421A-AAC3-D7A6EF96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25A8-CAE9-4175-AB6B-88DD3553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B27A-C799-4F7A-8543-FCB0FCFE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634E-8BD4-4D4F-A894-CAA7F115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2D97-7DBC-490A-AF31-BA778C6D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6675-59F9-411A-8E4F-44086B5E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51AE-099E-49B2-9A4C-D0C9A66E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DC00-56F9-4FCA-8B8A-6D5A486A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7AE3-E020-4AD5-ACBA-BE0889C8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17DE-1C36-4C34-BB49-6EAFD011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ABAA-2BE6-4F3A-9562-53D8434F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B7B1-A007-4CB8-AC9A-C7C5EAD72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7740-6523-4610-8686-247EA985D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DEA9-86EF-4995-A1BF-6E462AC7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1352-3C6F-4F00-93F4-E6B9EB25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50C8-33A4-428D-A082-A3A8975D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729E-4D8B-492D-8E69-6D7D9A87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6E91-4F6C-46F1-8898-510A9B93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8F17-7E36-42D2-A2B0-6DDA3E47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F65C-D02D-4570-8BAC-362F57F8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8C1F-D64A-43BA-8A3E-25711B6EE768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4E39-2FD5-4679-8179-2E590EDE48E0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o.wikipedia.org/wiki/Bilde:Maquina_vapor_Watt_ETSIIM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0/Steam_engine_in_action.gif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DEN INDUSTRIELLE REVOLUSJ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FORUTSETN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folkningsvekst på 1700- og 1800-ta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hov for større matproduksj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ffektivisering av jordbruket førte til større avkast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ndringene i landbruket  nødvendig for   byveks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Iron-forge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stahlofen"/>
          <p:cNvPicPr/>
          <p:nvPr/>
        </p:nvPicPr>
        <p:blipFill>
          <a:blip r:embed="rId1"/>
          <a:stretch/>
        </p:blipFill>
        <p:spPr>
          <a:xfrm>
            <a:off x="1946160" y="0"/>
            <a:ext cx="525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KONSEKVEN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Overbefolkede by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Miljøproble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Dårlige hygieniske forh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Harde og lange arbeidsdag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Barnearbeid var vanli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Arbeidsmarkedet var sterkt kjønnsde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Kvinnene tjente omtrent halvparten av det mennene tj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Håndverkere mister sin næ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dre levekår for folk fl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Økt levestand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lasseforskjel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Økonomisk og materiell kløft mellom de vestlige landene og andre verdensdel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barn_gruver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gruve_barn"/>
          <p:cNvPicPr/>
          <p:nvPr/>
        </p:nvPicPr>
        <p:blipFill>
          <a:blip r:embed="rId1"/>
          <a:stretch/>
        </p:blipFill>
        <p:spPr>
          <a:xfrm>
            <a:off x="495360" y="20520"/>
            <a:ext cx="8153280" cy="68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arbeit-kinder"/>
          <p:cNvPicPr/>
          <p:nvPr/>
        </p:nvPicPr>
        <p:blipFill>
          <a:blip r:embed="rId1"/>
          <a:stretch/>
        </p:blipFill>
        <p:spPr>
          <a:xfrm>
            <a:off x="1928880" y="0"/>
            <a:ext cx="528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LudditesSmashingLoomLarge"/>
          <p:cNvPicPr/>
          <p:nvPr/>
        </p:nvPicPr>
        <p:blipFill>
          <a:blip r:embed="rId1"/>
          <a:stretch/>
        </p:blipFill>
        <p:spPr>
          <a:xfrm>
            <a:off x="1547640" y="1135080"/>
            <a:ext cx="6120000" cy="57229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Calibri"/>
              </a:rPr>
              <a:t>MASKINSTORMERE PÅ BEGYNNELSEN AV 1800-TALL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746100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REAKSJON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Sosialistiske bevegel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rav om regulering av arbeidsforh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DEFINISJ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ndustrialisering: Gå over fra manuelt arbeid til maskinelt arbe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spinningjenny2a"/>
          <p:cNvPicPr/>
          <p:nvPr/>
        </p:nvPicPr>
        <p:blipFill>
          <a:blip r:embed="rId1"/>
          <a:stretch/>
        </p:blipFill>
        <p:spPr>
          <a:xfrm>
            <a:off x="4716360" y="3357720"/>
            <a:ext cx="3600720" cy="2925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180px-Marianne_Stokes_St_Elizabeth_of_Hungary_Spinning_for_the_Poor"/>
          <p:cNvPicPr/>
          <p:nvPr/>
        </p:nvPicPr>
        <p:blipFill>
          <a:blip r:embed="rId2"/>
          <a:stretch/>
        </p:blipFill>
        <p:spPr>
          <a:xfrm>
            <a:off x="1332000" y="2997360"/>
            <a:ext cx="205740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IDEOLOG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Adam Smith (1723 – 1790): Fri konkurranse, Kapitalismens far (1723 – 179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Karl Marx (1818 – 1883), kommunism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adam_smith2.jpg"/>
          <p:cNvPicPr/>
          <p:nvPr/>
        </p:nvPicPr>
        <p:blipFill>
          <a:blip r:embed="rId2"/>
          <a:stretch/>
        </p:blipFill>
        <p:spPr>
          <a:xfrm>
            <a:off x="4140360" y="1197000"/>
            <a:ext cx="2792160" cy="3638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72km1"/>
          <p:cNvPicPr/>
          <p:nvPr/>
        </p:nvPicPr>
        <p:blipFill>
          <a:blip r:embed="rId3"/>
          <a:stretch/>
        </p:blipFill>
        <p:spPr>
          <a:xfrm>
            <a:off x="6573960" y="3500280"/>
            <a:ext cx="2570040" cy="31417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capitalsystem-2"/>
          <p:cNvPicPr/>
          <p:nvPr/>
        </p:nvPicPr>
        <p:blipFill>
          <a:blip r:embed="rId1"/>
          <a:stretch/>
        </p:blipFill>
        <p:spPr>
          <a:xfrm>
            <a:off x="2112840" y="0"/>
            <a:ext cx="554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676520" y="419040"/>
            <a:ext cx="7162560" cy="125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3300"/>
                </a:solidFill>
                <a:latin typeface="Lombardic Narrow"/>
              </a:rPr>
              <a:t>Stereotype of the Factory Owner</a:t>
            </a:r>
            <a:r>
              <a:rPr b="1" i="1" lang="en-US" sz="3800" spc="-1" strike="noStrike">
                <a:solidFill>
                  <a:srgbClr val="993300"/>
                </a:solidFill>
                <a:latin typeface="Lombardic Narrow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fatcat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24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676520" y="365040"/>
            <a:ext cx="7162560" cy="137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Lombardic Narrow"/>
                <a:ea typeface="Arial"/>
              </a:rPr>
              <a:t>“</a:t>
            </a:r>
            <a:r>
              <a:rPr b="1" lang="en-US" sz="4200" spc="-1" strike="noStrike">
                <a:solidFill>
                  <a:srgbClr val="993300"/>
                </a:solidFill>
                <a:latin typeface="Lombardic Narrow"/>
                <a:ea typeface="Arial"/>
              </a:rPr>
              <a:t>Upstairs”/“Downstairs” Lif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Capital and Labor"/>
          <p:cNvPicPr/>
          <p:nvPr/>
        </p:nvPicPr>
        <p:blipFill>
          <a:blip r:embed="rId1"/>
          <a:srcRect l="0" t="1365" r="0" b="0"/>
          <a:stretch/>
        </p:blipFill>
        <p:spPr>
          <a:xfrm>
            <a:off x="0" y="47520"/>
            <a:ext cx="9144000" cy="6764400"/>
          </a:xfrm>
          <a:prstGeom prst="rect">
            <a:avLst/>
          </a:prstGeom>
          <a:ln w="9360">
            <a:solidFill>
              <a:srgbClr val="744d2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457200" y="-7776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4f81bd"/>
                </a:solidFill>
                <a:latin typeface="Calibri"/>
              </a:rPr>
              <a:t>Europa 18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57200" y="1522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029" descr="Europe1815GF"/>
          <p:cNvPicPr/>
          <p:nvPr/>
        </p:nvPicPr>
        <p:blipFill>
          <a:blip r:embed="rId1"/>
          <a:stretch/>
        </p:blipFill>
        <p:spPr>
          <a:xfrm>
            <a:off x="0" y="668160"/>
            <a:ext cx="914400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430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430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evolut"/>
          <p:cNvPicPr/>
          <p:nvPr/>
        </p:nvPicPr>
        <p:blipFill>
          <a:blip r:embed="rId1"/>
          <a:stretch/>
        </p:blipFill>
        <p:spPr>
          <a:xfrm>
            <a:off x="-114480" y="2049480"/>
            <a:ext cx="93729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VIRKN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ffektivisering av produksjo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ndring av arbeidslivet og familielivet, miljøet og forholdet mellom samfunnsklasse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dre kommunikasjon, mulighet for kontak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impact2"/>
          <p:cNvPicPr/>
          <p:nvPr/>
        </p:nvPicPr>
        <p:blipFill>
          <a:blip r:embed="rId1"/>
          <a:srcRect l="617" t="0" r="0" b="3033"/>
          <a:stretch/>
        </p:blipFill>
        <p:spPr>
          <a:xfrm>
            <a:off x="611280" y="0"/>
            <a:ext cx="7921440" cy="6858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523880" y="380880"/>
            <a:ext cx="71629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3300"/>
                </a:solidFill>
                <a:latin typeface="Lombardic Narrow"/>
              </a:rPr>
              <a:t>Steam Ship</a:t>
            </a:r>
            <a:r>
              <a:rPr b="1" lang="en-US" sz="3900" spc="-1" strike="noStrike">
                <a:solidFill>
                  <a:srgbClr val="993300"/>
                </a:solidFill>
                <a:latin typeface="Lombardic Narrow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T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a. 1750: Den industrielle revolusjonen begynner i En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a. 1850: Industrien kommer for alvor til Nor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HVORFOR ENGLA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unnskap om tekstilproduksj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ngen indre krigføring siden 1600-ta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Fristed for emigranter: nye impul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Gode veier og kysttrafik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Adelen ønsket å investere i indust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Arbeidsk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Råva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Marked, indre og y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800" spc="-1" strike="noStrike">
                <a:solidFill>
                  <a:srgbClr val="000000"/>
                </a:solidFill>
                <a:latin typeface="Arial Unicode MS"/>
              </a:rPr>
              <a:t>OPPSTA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Spinne- og vevemaskin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Dampmaskinen økte vareproduksjon og omset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ullk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Watts dampmask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3973680"/>
            <a:ext cx="3065400" cy="2282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428760" y="407664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00"/>
                </a:solidFill>
                <a:latin typeface="Calibri"/>
              </a:rPr>
              <a:t>James Watts dampmaskin, 176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Bilde:Steam engine in action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692280"/>
            <a:ext cx="8353440" cy="5435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"/>
          <p:cNvSpPr/>
          <p:nvPr/>
        </p:nvSpPr>
        <p:spPr>
          <a:xfrm>
            <a:off x="611280" y="76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09:07:11Z</dcterms:created>
  <dc:creator>"Håvard Dahle" &lt;havardd@vfk.no&gt;</dc:creator>
  <dc:description/>
  <dc:language>en-US</dc:language>
  <cp:lastModifiedBy>Vilgunn</cp:lastModifiedBy>
  <dcterms:modified xsi:type="dcterms:W3CDTF">2010-04-10T09:34:41Z</dcterms:modified>
  <cp:revision>1</cp:revision>
  <dc:subject/>
  <dc:title>DEN INDUSTRIELLE REVOLUSJON</dc:title>
</cp:coreProperties>
</file>